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4C51-B8B3-4E98-A4E1-9848990EE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7135-6EC0-4F3C-A812-D0D0E197C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DDC4-4D2B-48E2-8A8A-349D2653D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114B-71C5-46D7-8F6C-824679733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6A8C-B9D2-4E5A-A707-C84DBF1A1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73BF-65A2-456B-8ECD-8E2FF35D3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5F2B-7E0B-4C69-AE40-B08DD7386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2B94-121E-40B2-8FBC-6E55E14EF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DE77-702F-43E5-9DBD-FF9B09524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E60D-A900-4173-9BCC-40C65D83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E584-7851-48A7-9B2F-5A18F92A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F553-1B8D-449D-A18C-E1043593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5D680-199F-4576-B0A1-3D29E47338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916280"/>
            <a:ext cx="8062920" cy="16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mbatting corruption: legal actions by Civil Society Organis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Sophie Lemaître - Legal advis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Sherp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\\SHERPASERVER\Sherpa\COMMUNICATION\Outils de communication\Logos\Logo Sherpa\Logo Sherpa.jpg"/>
          <p:cNvPicPr/>
          <p:nvPr/>
        </p:nvPicPr>
        <p:blipFill>
          <a:blip r:embed="rId1"/>
          <a:stretch/>
        </p:blipFill>
        <p:spPr>
          <a:xfrm>
            <a:off x="22320" y="115920"/>
            <a:ext cx="365436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ontac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ophie.lemaitre@asso-sherpa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\\SHERPASERVER\Sherpa\COMMUNICATION\Outils de communication\Logos\Logo Sherpa\Logo Sherpa.jpg"/>
          <p:cNvPicPr/>
          <p:nvPr/>
        </p:nvPicPr>
        <p:blipFill>
          <a:blip r:embed="rId1"/>
          <a:stretch/>
        </p:blipFill>
        <p:spPr>
          <a:xfrm>
            <a:off x="-19080" y="-7920"/>
            <a:ext cx="4048200" cy="15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Shepa: who are w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95280" y="1268280"/>
            <a:ext cx="8424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nch NGO based in Paris composed of lawy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r mandate: protecting and defending populations affected by economic crim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? Through advocacy work, strategic litigations, legal trainings of CSOs and re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l objective: leading to effective changes of public policy and legal frame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The « Bien mal acquis » c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24000" y="1052640"/>
            <a:ext cx="8712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The « bien mal acquis » cas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ill-gotten gains cases) initiated by Sherpa against foreign dignitaries from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rica (Congo, Gabon, and Equatorial Guinea)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ddle East (Syria),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ntral Asia (Uzbekist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itional ongoing cases in France: Egypt and Tunis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rst cases initiated more than 6 years a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Legal basis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rruption, concealment of misappropriation of public funds and money launde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iminal procedure possible in France only because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asse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properties, cars, bank accounts) are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on the French terri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84963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The case of Uzbekistan - Backgroun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50920" y="1052280"/>
            <a:ext cx="86421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ptember 2012: mutual legal assistance request from Swiss authorit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ebruary 2013: investigating judge assigned and searches conduct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rch 2014: request from Sherpa to join the criminal proceedings as a civil party – approved in June 2014 =&gt; access to all the investigations and can bring new information to the jud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ovember 2014: investigations still ongoing and discussions with other jurisdic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84963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The case of Uzbekistan – finding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50920" y="981000"/>
            <a:ext cx="86421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26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c00000"/>
                </a:solidFill>
                <a:latin typeface="Calibri"/>
              </a:rPr>
              <a:t>Castle Groussay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, classified as "Historic Monument“ sold to 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Ruby International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 for a total amount of around 30 million euro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900" spc="-1" strike="noStrike">
                <a:solidFill>
                  <a:srgbClr val="c00000"/>
                </a:solidFill>
                <a:latin typeface="Calibri"/>
              </a:rPr>
              <a:t>real estate 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in the </a:t>
            </a:r>
            <a:r>
              <a:rPr b="1" lang="en-US" sz="2900" spc="-1" strike="noStrike">
                <a:solidFill>
                  <a:srgbClr val="c00000"/>
                </a:solidFill>
                <a:latin typeface="Calibri"/>
              </a:rPr>
              <a:t>16</a:t>
            </a:r>
            <a:r>
              <a:rPr b="1" lang="en-US" sz="2900" spc="-1" strike="noStrike" baseline="30000">
                <a:solidFill>
                  <a:srgbClr val="c00000"/>
                </a:solidFill>
                <a:latin typeface="Calibri"/>
              </a:rPr>
              <a:t>th</a:t>
            </a:r>
            <a:r>
              <a:rPr b="1" lang="en-US" sz="2900" spc="-1" strike="noStrike">
                <a:solidFill>
                  <a:srgbClr val="c00000"/>
                </a:solidFill>
                <a:latin typeface="Calibri"/>
              </a:rPr>
              <a:t> arrondissement of Paris 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900" spc="-1" strike="noStrike">
                <a:solidFill>
                  <a:srgbClr val="c00000"/>
                </a:solidFill>
                <a:latin typeface="Calibri"/>
              </a:rPr>
              <a:t>house in Gassin 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(Côte d’Azur)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r a total amount of around 2,5 million euros purchased through 2 companies - 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Invest service group 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 Invest Studio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3 companies created by close relationships of Goulnara Karimova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hallenges to make the connection between Goulnara and the properties =&gt; funds going through tax heavens which do not cooperat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7"/>
          <p:cNvSpPr/>
          <p:nvPr/>
        </p:nvSpPr>
        <p:spPr>
          <a:xfrm>
            <a:off x="4000680" y="5091120"/>
            <a:ext cx="37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Estimated value: 1.605.340 € and  672.714 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18"/>
          <p:cNvSpPr/>
          <p:nvPr/>
        </p:nvSpPr>
        <p:spPr>
          <a:xfrm>
            <a:off x="4643280" y="3465360"/>
            <a:ext cx="156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Estimated value: 1.674.132 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 Box 21"/>
          <p:cNvSpPr/>
          <p:nvPr/>
        </p:nvSpPr>
        <p:spPr>
          <a:xfrm>
            <a:off x="6791400" y="3681360"/>
            <a:ext cx="23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 Narrow"/>
              </a:rPr>
              <a:t>Estimated value: 1.448.265 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23"/>
          <p:cNvSpPr/>
          <p:nvPr/>
        </p:nvSpPr>
        <p:spPr>
          <a:xfrm>
            <a:off x="7920" y="6215040"/>
            <a:ext cx="25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Estimated value: 672.714 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ZoneTexte 1"/>
          <p:cNvSpPr/>
          <p:nvPr/>
        </p:nvSpPr>
        <p:spPr>
          <a:xfrm>
            <a:off x="1279440" y="9036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Assets hold in F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14" descr="http://upload.wikimedia.org/wikipedia/commons/4/4d/Ch%C3%A2teau_de_Groussay_%28Montfort-l%27Amaury%29.JPG"/>
          <p:cNvPicPr/>
          <p:nvPr/>
        </p:nvPicPr>
        <p:blipFill>
          <a:blip r:embed="rId1"/>
          <a:stretch/>
        </p:blipFill>
        <p:spPr>
          <a:xfrm>
            <a:off x="139680" y="852480"/>
            <a:ext cx="4324320" cy="3244680"/>
          </a:xfrm>
          <a:prstGeom prst="rect">
            <a:avLst/>
          </a:prstGeom>
          <a:ln w="0">
            <a:noFill/>
          </a:ln>
        </p:spPr>
      </p:pic>
      <p:sp>
        <p:nvSpPr>
          <p:cNvPr id="58" name="ZoneTexte 1"/>
          <p:cNvSpPr/>
          <p:nvPr/>
        </p:nvSpPr>
        <p:spPr>
          <a:xfrm>
            <a:off x="465120" y="346248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alibri"/>
              </a:rPr>
              <a:t>Estimated value: 30 million euro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0" descr="http://www.uznews.net/con_images/iu/1/10127_85a9ae9ffa2faea5_max.jpg"/>
          <p:cNvPicPr/>
          <p:nvPr/>
        </p:nvPicPr>
        <p:blipFill>
          <a:blip r:embed="rId2"/>
          <a:stretch/>
        </p:blipFill>
        <p:spPr>
          <a:xfrm>
            <a:off x="4406760" y="2801880"/>
            <a:ext cx="4552920" cy="2847960"/>
          </a:xfrm>
          <a:prstGeom prst="rect">
            <a:avLst/>
          </a:prstGeom>
          <a:ln w="0">
            <a:noFill/>
          </a:ln>
        </p:spPr>
      </p:pic>
      <p:sp>
        <p:nvSpPr>
          <p:cNvPr id="60" name="ZoneTexte 2"/>
          <p:cNvSpPr/>
          <p:nvPr/>
        </p:nvSpPr>
        <p:spPr>
          <a:xfrm>
            <a:off x="4991040" y="307800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alibri"/>
              </a:rPr>
              <a:t>Estimated value: 2.5 million euro</a:t>
            </a: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353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Main lessons learned from the cas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50560" y="1196640"/>
            <a:ext cx="8569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dentifying key partners (e.g. TI), coordinating actions, being strategic to avoid risks (e.g. using medi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vestigations = time consuming, costly and require human resources both for CSOs and law enforcement offic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ertia of the French public prosecutor until 20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formation from different sources essential (e.g. whistle-blowers, partner organisations, etc.) – must be verifiable and legally obtai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ed for transparency of beneficial ownershi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Changes occured in Fr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6840" y="1268280"/>
            <a:ext cx="84358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ackage of new laws adopted in December 20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rpa involved and interviewed during the revision 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ognition of a right of standing to sue for anti-corruption CS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ion of a national financial prosecutor dedicated to financial cri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Key messa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50560" y="83664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11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ocating adequate financial and human resources to investig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1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ing and strengthening international cooperation and mutual legal assist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1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ving recourse to CSOs’ expertise and experiences =&gt; case of Sherp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anting a right of standing to sue for CS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ercoming tax heavens to have access to information otherwise block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sues of returning assets to citizens: how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3T12:46:12Z</dcterms:created>
  <dc:creator>sherpa6</dc:creator>
  <dc:description/>
  <dc:language>en-US</dc:language>
  <cp:lastModifiedBy>Andrea M.</cp:lastModifiedBy>
  <dcterms:modified xsi:type="dcterms:W3CDTF">2014-12-02T12:49:39Z</dcterms:modified>
  <cp:revision>26</cp:revision>
  <dc:subject/>
  <dc:title>UNCAC IRG Briefing for NGOs Panel on enforcement issues</dc:title>
</cp:coreProperties>
</file>